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9.jpeg" ContentType="image/jpeg"/>
  <Override PartName="/ppt/media/image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TYPE.WAV" ContentType="audio/x-wav"/>
  <Override PartName="/ppt/media/image37.jpeg" ContentType="image/jpeg"/>
  <Override PartName="/ppt/media/image13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camera.wav" ContentType="audio/x-wav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自定义放映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020-D75F-4F12-B30F-92BCF90B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4F1-E9D7-4DC0-B365-5480AFAF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F49-C680-487E-A5B3-D86A38CF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520-56E8-44C3-8AD6-075DB70D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B39-566D-455D-AE4F-F41D955B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798-D0E4-4A7B-87D4-78D6704B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D2D-374B-4BB6-B156-D1CC21F0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382-0631-4C08-939B-7E01F3BE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599-FD47-4264-B6FB-4A5A980D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BD5-0B04-4B60-8536-33661501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38B-6D86-4D0B-BE35-5762555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BB4-051C-4CD1-B168-40AB012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ABFF-6B8F-4127-B744-7EE632F372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6.jpeg"/><Relationship Id="rId3" Type="http://schemas.openxmlformats.org/officeDocument/2006/relationships/image" Target="../media/image28.jpeg"/><Relationship Id="rId4" Type="http://schemas.openxmlformats.org/officeDocument/2006/relationships/image" Target="../media/image34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课题</a:t>
            </a: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2 </a:t>
            </a: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二氧化碳制取的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2090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33160" y="27288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下列仪器可供设计制取二氧化碳的装置时选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你也可以另选或自制仪器，还可以利用代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248520" y="5257800"/>
            <a:ext cx="1371600" cy="761760"/>
            <a:chOff x="6248520" y="5257800"/>
            <a:chExt cx="1371600" cy="761760"/>
          </a:xfrm>
        </p:grpSpPr>
        <p:sp>
          <p:nvSpPr>
            <p:cNvPr id="175" name=""/>
            <p:cNvSpPr/>
            <p:nvPr/>
          </p:nvSpPr>
          <p:spPr>
            <a:xfrm>
              <a:off x="6264720" y="5270040"/>
              <a:ext cx="1338480" cy="749520"/>
            </a:xfrm>
            <a:prstGeom prst="roundRect">
              <a:avLst>
                <a:gd name="adj" fmla="val 67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51840" y="560340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15200" y="560340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98360" y="5603400"/>
              <a:ext cx="25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66400" y="560340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13280" y="5603400"/>
              <a:ext cx="2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1360" y="5646960"/>
              <a:ext cx="4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92600" y="5646960"/>
              <a:ext cx="73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7240" y="564696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90960" y="5646960"/>
              <a:ext cx="28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9680" y="569376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23480" y="5693760"/>
              <a:ext cx="57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26080" y="5693760"/>
              <a:ext cx="12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74400" y="569376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05400" y="5623200"/>
              <a:ext cx="3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4200" y="559944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65400" y="573948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24560" y="57394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15640" y="5739480"/>
              <a:ext cx="23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78640" y="5739480"/>
              <a:ext cx="3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1640" y="561096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75000" y="561096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58160" y="5610960"/>
              <a:ext cx="25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6560" y="561096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73080" y="5610960"/>
              <a:ext cx="2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1160" y="5653080"/>
              <a:ext cx="47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51680" y="5653080"/>
              <a:ext cx="74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87400" y="565308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51120" y="5653080"/>
              <a:ext cx="28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09480" y="570024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3640" y="5700240"/>
              <a:ext cx="57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84800" y="5700240"/>
              <a:ext cx="121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4560" y="570024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94280" y="5905800"/>
              <a:ext cx="3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44000" y="560664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24120" y="57466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84360" y="57466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75800" y="5746680"/>
              <a:ext cx="22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38440" y="57466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12600" y="57736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4880" y="5700240"/>
              <a:ext cx="52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39200" y="5760360"/>
              <a:ext cx="25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53600" y="569916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23480" y="5778000"/>
              <a:ext cx="21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2680" y="5700240"/>
              <a:ext cx="4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96080" y="5757120"/>
              <a:ext cx="7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9600" y="5653080"/>
              <a:ext cx="2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1280" y="5608800"/>
              <a:ext cx="56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53360" y="5650200"/>
              <a:ext cx="121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24920" y="575172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17040" y="576036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8760" y="581004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2480" y="581004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5280" y="5810040"/>
              <a:ext cx="25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03680" y="5810040"/>
              <a:ext cx="124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50200" y="5810040"/>
              <a:ext cx="21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18280" y="5853960"/>
              <a:ext cx="47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28800" y="5853960"/>
              <a:ext cx="7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64520" y="5853960"/>
              <a:ext cx="3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8240" y="5853960"/>
              <a:ext cx="28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86960" y="5900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0760" y="5900400"/>
              <a:ext cx="56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62280" y="5900400"/>
              <a:ext cx="12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1680" y="5900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42320" y="582984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1480" y="580608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01600" y="59472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1480" y="59472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52920" y="5947200"/>
              <a:ext cx="22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5560" y="59472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8120" y="5818680"/>
              <a:ext cx="3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42200" y="581868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5000" y="5818680"/>
              <a:ext cx="25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93400" y="581868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9920" y="5818680"/>
              <a:ext cx="2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7640" y="5860800"/>
              <a:ext cx="47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18520" y="5860800"/>
              <a:ext cx="7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4240" y="586080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7960" y="5860800"/>
              <a:ext cx="28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76680" y="59076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50120" y="5907600"/>
              <a:ext cx="57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1640" y="5907600"/>
              <a:ext cx="12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01400" y="59076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32400" y="5837040"/>
              <a:ext cx="3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11200" y="581436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90960" y="5954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51200" y="5954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42640" y="5954400"/>
              <a:ext cx="23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05280" y="5954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9640" y="595764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58440" y="5820480"/>
              <a:ext cx="25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87520" y="590760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06240" y="5859000"/>
              <a:ext cx="7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14760" y="594324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20200" y="5959440"/>
              <a:ext cx="56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64240" y="5758200"/>
              <a:ext cx="12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6840" y="590148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4520" y="5951520"/>
              <a:ext cx="23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265800" y="5541120"/>
              <a:ext cx="1337400" cy="22320"/>
              <a:chOff x="6265800" y="5541120"/>
              <a:chExt cx="1337400" cy="223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6265800" y="5541120"/>
                <a:ext cx="1337400" cy="22320"/>
                <a:chOff x="6265800" y="5541120"/>
                <a:chExt cx="1337400" cy="223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293520" y="5560560"/>
                  <a:ext cx="12852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570080" y="5541120"/>
                  <a:ext cx="33120" cy="2160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0" y="27"/>
                      </a:moveTo>
                      <a:cubicBezTo>
                        <a:pt x="8" y="26"/>
                        <a:pt x="17" y="25"/>
                        <a:pt x="24" y="21"/>
                      </a:cubicBezTo>
                      <a:cubicBezTo>
                        <a:pt x="31" y="17"/>
                        <a:pt x="38" y="8"/>
                        <a:pt x="45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65800" y="5543280"/>
                  <a:ext cx="45360" cy="20160"/>
                </a:xfrm>
                <a:custGeom>
                  <a:avLst/>
                  <a:gdLst/>
                  <a:ahLst/>
                  <a:rect l="l" t="t" r="r" b="b"/>
                  <a:pathLst>
                    <a:path w="62" h="25">
                      <a:moveTo>
                        <a:pt x="62" y="24"/>
                      </a:moveTo>
                      <a:cubicBezTo>
                        <a:pt x="56" y="23"/>
                        <a:pt x="31" y="25"/>
                        <a:pt x="21" y="21"/>
                      </a:cubicBezTo>
                      <a:cubicBezTo>
                        <a:pt x="11" y="17"/>
                        <a:pt x="7" y="8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7570080" y="554112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27"/>
                    </a:moveTo>
                    <a:cubicBezTo>
                      <a:pt x="8" y="26"/>
                      <a:pt x="17" y="25"/>
                      <a:pt x="24" y="21"/>
                    </a:cubicBezTo>
                    <a:cubicBezTo>
                      <a:pt x="31" y="17"/>
                      <a:pt x="38" y="8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248520" y="5257800"/>
              <a:ext cx="1371600" cy="56160"/>
            </a:xfrm>
            <a:prstGeom prst="roundRect">
              <a:avLst>
                <a:gd name="adj" fmla="val 329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"/>
          <p:cNvGraphicFramePr/>
          <p:nvPr/>
        </p:nvGraphicFramePr>
        <p:xfrm>
          <a:off x="6172200" y="1447920"/>
          <a:ext cx="56844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447920"/>
                    <a:ext cx="5684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876920" y="1447920"/>
            <a:ext cx="788760" cy="1628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3429000" y="1752480"/>
            <a:ext cx="1008000" cy="1038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286000" y="1600200"/>
            <a:ext cx="914400" cy="1095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204920" y="1828800"/>
            <a:ext cx="814320" cy="971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1371600" y="3124080"/>
            <a:ext cx="642960" cy="17528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2286000" y="3200400"/>
            <a:ext cx="1081080" cy="1447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3581280" y="3276720"/>
            <a:ext cx="70668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4419720" y="3276720"/>
          <a:ext cx="685800" cy="1685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9720" y="3276720"/>
                    <a:ext cx="68580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12"/>
          <a:stretch/>
        </p:blipFill>
        <p:spPr>
          <a:xfrm>
            <a:off x="5486400" y="3276720"/>
            <a:ext cx="1066680" cy="904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3"/>
          <a:stretch/>
        </p:blipFill>
        <p:spPr>
          <a:xfrm>
            <a:off x="7162920" y="1719360"/>
            <a:ext cx="1457280" cy="1252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4"/>
          <a:stretch/>
        </p:blipFill>
        <p:spPr>
          <a:xfrm>
            <a:off x="1371600" y="5181480"/>
            <a:ext cx="1371600" cy="118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7162920" y="3581280"/>
          <a:ext cx="809640" cy="99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3581280"/>
                    <a:ext cx="809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522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以下是设计的部份装置可供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31840" y="7761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气体发生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95320" cy="1771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973080" cy="1604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114480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1905120" y="1523880"/>
          <a:ext cx="83952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523880"/>
                    <a:ext cx="8395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019920" y="1600200"/>
          <a:ext cx="1322280" cy="16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1600200"/>
                    <a:ext cx="1322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7696080" y="1447920"/>
            <a:ext cx="7765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7711920" y="3844800"/>
            <a:ext cx="1141560" cy="1433520"/>
            <a:chOff x="7711920" y="3844800"/>
            <a:chExt cx="1141560" cy="1433520"/>
          </a:xfrm>
        </p:grpSpPr>
        <p:grpSp>
          <p:nvGrpSpPr>
            <p:cNvPr id="307" name=""/>
            <p:cNvGrpSpPr/>
            <p:nvPr/>
          </p:nvGrpSpPr>
          <p:grpSpPr>
            <a:xfrm>
              <a:off x="8238960" y="4424400"/>
              <a:ext cx="614520" cy="218880"/>
              <a:chOff x="8238960" y="4424400"/>
              <a:chExt cx="614520" cy="218880"/>
            </a:xfrm>
          </p:grpSpPr>
          <p:sp>
            <p:nvSpPr>
              <p:cNvPr id="308" name=""/>
              <p:cNvSpPr/>
              <p:nvPr/>
            </p:nvSpPr>
            <p:spPr>
              <a:xfrm>
                <a:off x="8519760" y="4520160"/>
                <a:ext cx="5904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8238960" y="4446720"/>
                <a:ext cx="2707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238960" y="4613400"/>
                <a:ext cx="147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253720" y="4475520"/>
                <a:ext cx="27216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506440" y="4424400"/>
                <a:ext cx="343800" cy="24120"/>
              </a:xfrm>
              <a:custGeom>
                <a:avLst/>
                <a:gdLst/>
                <a:ahLst/>
                <a:rect l="l" t="t" r="r" b="b"/>
                <a:pathLst>
                  <a:path w="621" h="41">
                    <a:moveTo>
                      <a:pt x="0" y="41"/>
                    </a:moveTo>
                    <a:cubicBezTo>
                      <a:pt x="60" y="12"/>
                      <a:pt x="48" y="12"/>
                      <a:pt x="117" y="0"/>
                    </a:cubicBezTo>
                    <a:lnTo>
                      <a:pt x="62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509680" y="4459680"/>
                <a:ext cx="343800" cy="24120"/>
              </a:xfrm>
              <a:custGeom>
                <a:avLst/>
                <a:gdLst/>
                <a:ahLst/>
                <a:rect l="l" t="t" r="r" b="b"/>
                <a:pathLst>
                  <a:path w="621" h="41">
                    <a:moveTo>
                      <a:pt x="0" y="41"/>
                    </a:moveTo>
                    <a:cubicBezTo>
                      <a:pt x="60" y="12"/>
                      <a:pt x="48" y="12"/>
                      <a:pt x="117" y="0"/>
                    </a:cubicBezTo>
                    <a:lnTo>
                      <a:pt x="62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8253720" y="4487040"/>
              <a:ext cx="156600" cy="182880"/>
              <a:chOff x="8253720" y="4487040"/>
              <a:chExt cx="156600" cy="182880"/>
            </a:xfrm>
          </p:grpSpPr>
          <p:sp>
            <p:nvSpPr>
              <p:cNvPr id="315" name=""/>
              <p:cNvSpPr/>
              <p:nvPr/>
            </p:nvSpPr>
            <p:spPr>
              <a:xfrm rot="3747000">
                <a:off x="8256600" y="4574520"/>
                <a:ext cx="129960" cy="12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747000">
                <a:off x="8253720" y="4530600"/>
                <a:ext cx="156600" cy="95040"/>
              </a:xfrm>
              <a:custGeom>
                <a:avLst/>
                <a:gdLst>
                  <a:gd name="textAreaLeft" fmla="*/ 27000 w 156600"/>
                  <a:gd name="textAreaRight" fmla="*/ 129600 w 156600"/>
                  <a:gd name="textAreaTop" fmla="*/ 16560 h 95040"/>
                  <a:gd name="textAreaBottom" fmla="*/ 7848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978" y="21600"/>
                    </a:lnTo>
                    <a:lnTo>
                      <a:pt x="3622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3746400">
                <a:off x="8265600" y="4570560"/>
                <a:ext cx="136080" cy="10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711920" y="4887720"/>
              <a:ext cx="190440" cy="218160"/>
              <a:chOff x="7711920" y="4887720"/>
              <a:chExt cx="190440" cy="218160"/>
            </a:xfrm>
          </p:grpSpPr>
          <p:sp>
            <p:nvSpPr>
              <p:cNvPr id="319" name=""/>
              <p:cNvSpPr/>
              <p:nvPr/>
            </p:nvSpPr>
            <p:spPr>
              <a:xfrm>
                <a:off x="7769880" y="5061960"/>
                <a:ext cx="45000" cy="4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765200" y="4973040"/>
                <a:ext cx="9972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64920" y="4977720"/>
                <a:ext cx="3744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765200" y="4995360"/>
                <a:ext cx="432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7803000" y="4964400"/>
                <a:ext cx="619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765200" y="4968720"/>
                <a:ext cx="8280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773480" y="4966920"/>
                <a:ext cx="38160" cy="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11920" y="4887720"/>
                <a:ext cx="95040" cy="110160"/>
              </a:xfrm>
              <a:custGeom>
                <a:avLst/>
                <a:gdLst/>
                <a:ahLst/>
                <a:rect l="l" t="t" r="r" b="b"/>
                <a:pathLst>
                  <a:path w="172" h="187">
                    <a:moveTo>
                      <a:pt x="103" y="186"/>
                    </a:moveTo>
                    <a:cubicBezTo>
                      <a:pt x="112" y="185"/>
                      <a:pt x="103" y="176"/>
                      <a:pt x="103" y="168"/>
                    </a:cubicBezTo>
                    <a:cubicBezTo>
                      <a:pt x="103" y="160"/>
                      <a:pt x="97" y="147"/>
                      <a:pt x="100" y="138"/>
                    </a:cubicBezTo>
                    <a:cubicBezTo>
                      <a:pt x="103" y="129"/>
                      <a:pt x="113" y="117"/>
                      <a:pt x="121" y="114"/>
                    </a:cubicBezTo>
                    <a:cubicBezTo>
                      <a:pt x="129" y="111"/>
                      <a:pt x="143" y="115"/>
                      <a:pt x="151" y="117"/>
                    </a:cubicBezTo>
                    <a:cubicBezTo>
                      <a:pt x="159" y="119"/>
                      <a:pt x="166" y="132"/>
                      <a:pt x="169" y="126"/>
                    </a:cubicBezTo>
                    <a:cubicBezTo>
                      <a:pt x="172" y="120"/>
                      <a:pt x="170" y="93"/>
                      <a:pt x="169" y="81"/>
                    </a:cubicBezTo>
                    <a:cubicBezTo>
                      <a:pt x="168" y="69"/>
                      <a:pt x="167" y="62"/>
                      <a:pt x="160" y="51"/>
                    </a:cubicBezTo>
                    <a:cubicBezTo>
                      <a:pt x="153" y="40"/>
                      <a:pt x="139" y="23"/>
                      <a:pt x="124" y="15"/>
                    </a:cubicBezTo>
                    <a:cubicBezTo>
                      <a:pt x="109" y="7"/>
                      <a:pt x="84" y="0"/>
                      <a:pt x="67" y="3"/>
                    </a:cubicBezTo>
                    <a:cubicBezTo>
                      <a:pt x="50" y="6"/>
                      <a:pt x="30" y="19"/>
                      <a:pt x="19" y="33"/>
                    </a:cubicBezTo>
                    <a:cubicBezTo>
                      <a:pt x="8" y="47"/>
                      <a:pt x="2" y="70"/>
                      <a:pt x="1" y="87"/>
                    </a:cubicBezTo>
                    <a:cubicBezTo>
                      <a:pt x="0" y="104"/>
                      <a:pt x="2" y="124"/>
                      <a:pt x="10" y="138"/>
                    </a:cubicBezTo>
                    <a:cubicBezTo>
                      <a:pt x="18" y="152"/>
                      <a:pt x="35" y="165"/>
                      <a:pt x="49" y="171"/>
                    </a:cubicBezTo>
                    <a:cubicBezTo>
                      <a:pt x="63" y="177"/>
                      <a:pt x="94" y="187"/>
                      <a:pt x="103" y="18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8014680" y="3844800"/>
              <a:ext cx="151920" cy="20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96240" y="3863880"/>
              <a:ext cx="140040" cy="530280"/>
            </a:xfrm>
            <a:custGeom>
              <a:avLst/>
              <a:gdLst/>
              <a:ahLst/>
              <a:rect l="l" t="t" r="r" b="b"/>
              <a:pathLst>
                <a:path w="253" h="900">
                  <a:moveTo>
                    <a:pt x="220" y="0"/>
                  </a:moveTo>
                  <a:cubicBezTo>
                    <a:pt x="236" y="76"/>
                    <a:pt x="252" y="152"/>
                    <a:pt x="250" y="192"/>
                  </a:cubicBezTo>
                  <a:cubicBezTo>
                    <a:pt x="248" y="232"/>
                    <a:pt x="226" y="224"/>
                    <a:pt x="205" y="240"/>
                  </a:cubicBezTo>
                  <a:cubicBezTo>
                    <a:pt x="184" y="256"/>
                    <a:pt x="152" y="266"/>
                    <a:pt x="124" y="291"/>
                  </a:cubicBezTo>
                  <a:cubicBezTo>
                    <a:pt x="96" y="316"/>
                    <a:pt x="61" y="349"/>
                    <a:pt x="40" y="393"/>
                  </a:cubicBezTo>
                  <a:cubicBezTo>
                    <a:pt x="19" y="437"/>
                    <a:pt x="2" y="508"/>
                    <a:pt x="1" y="555"/>
                  </a:cubicBezTo>
                  <a:cubicBezTo>
                    <a:pt x="0" y="602"/>
                    <a:pt x="15" y="639"/>
                    <a:pt x="31" y="678"/>
                  </a:cubicBezTo>
                  <a:cubicBezTo>
                    <a:pt x="47" y="717"/>
                    <a:pt x="72" y="760"/>
                    <a:pt x="100" y="789"/>
                  </a:cubicBezTo>
                  <a:cubicBezTo>
                    <a:pt x="128" y="818"/>
                    <a:pt x="176" y="841"/>
                    <a:pt x="199" y="855"/>
                  </a:cubicBezTo>
                  <a:cubicBezTo>
                    <a:pt x="222" y="869"/>
                    <a:pt x="226" y="866"/>
                    <a:pt x="235" y="873"/>
                  </a:cubicBezTo>
                  <a:cubicBezTo>
                    <a:pt x="244" y="880"/>
                    <a:pt x="250" y="896"/>
                    <a:pt x="253" y="9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29440" y="4395960"/>
              <a:ext cx="10800" cy="4248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12" y="0"/>
                  </a:moveTo>
                  <a:cubicBezTo>
                    <a:pt x="16" y="16"/>
                    <a:pt x="20" y="33"/>
                    <a:pt x="18" y="45"/>
                  </a:cubicBezTo>
                  <a:cubicBezTo>
                    <a:pt x="16" y="57"/>
                    <a:pt x="8" y="64"/>
                    <a:pt x="0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35280" y="3867480"/>
              <a:ext cx="142200" cy="568800"/>
            </a:xfrm>
            <a:custGeom>
              <a:avLst/>
              <a:gdLst/>
              <a:ahLst/>
              <a:rect l="l" t="t" r="r" b="b"/>
              <a:pathLst>
                <a:path w="257" h="966">
                  <a:moveTo>
                    <a:pt x="13" y="966"/>
                  </a:moveTo>
                  <a:cubicBezTo>
                    <a:pt x="7" y="956"/>
                    <a:pt x="2" y="946"/>
                    <a:pt x="1" y="933"/>
                  </a:cubicBezTo>
                  <a:cubicBezTo>
                    <a:pt x="0" y="920"/>
                    <a:pt x="2" y="901"/>
                    <a:pt x="10" y="888"/>
                  </a:cubicBezTo>
                  <a:cubicBezTo>
                    <a:pt x="18" y="875"/>
                    <a:pt x="37" y="862"/>
                    <a:pt x="52" y="852"/>
                  </a:cubicBezTo>
                  <a:cubicBezTo>
                    <a:pt x="67" y="842"/>
                    <a:pt x="85" y="841"/>
                    <a:pt x="103" y="828"/>
                  </a:cubicBezTo>
                  <a:cubicBezTo>
                    <a:pt x="121" y="815"/>
                    <a:pt x="142" y="800"/>
                    <a:pt x="163" y="774"/>
                  </a:cubicBezTo>
                  <a:cubicBezTo>
                    <a:pt x="184" y="748"/>
                    <a:pt x="217" y="711"/>
                    <a:pt x="232" y="672"/>
                  </a:cubicBezTo>
                  <a:cubicBezTo>
                    <a:pt x="247" y="633"/>
                    <a:pt x="257" y="584"/>
                    <a:pt x="256" y="540"/>
                  </a:cubicBezTo>
                  <a:cubicBezTo>
                    <a:pt x="255" y="496"/>
                    <a:pt x="242" y="447"/>
                    <a:pt x="226" y="408"/>
                  </a:cubicBezTo>
                  <a:cubicBezTo>
                    <a:pt x="210" y="369"/>
                    <a:pt x="188" y="336"/>
                    <a:pt x="157" y="306"/>
                  </a:cubicBezTo>
                  <a:cubicBezTo>
                    <a:pt x="126" y="276"/>
                    <a:pt x="66" y="243"/>
                    <a:pt x="43" y="228"/>
                  </a:cubicBezTo>
                  <a:cubicBezTo>
                    <a:pt x="20" y="213"/>
                    <a:pt x="24" y="219"/>
                    <a:pt x="19" y="213"/>
                  </a:cubicBezTo>
                  <a:cubicBezTo>
                    <a:pt x="14" y="207"/>
                    <a:pt x="17" y="199"/>
                    <a:pt x="16" y="192"/>
                  </a:cubicBezTo>
                  <a:cubicBezTo>
                    <a:pt x="15" y="185"/>
                    <a:pt x="10" y="203"/>
                    <a:pt x="13" y="171"/>
                  </a:cubicBezTo>
                  <a:cubicBezTo>
                    <a:pt x="16" y="139"/>
                    <a:pt x="26" y="69"/>
                    <a:pt x="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49600" y="3991320"/>
              <a:ext cx="76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57880" y="4376880"/>
              <a:ext cx="57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56920" y="5278320"/>
              <a:ext cx="6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8960" y="4633200"/>
              <a:ext cx="292320" cy="643320"/>
            </a:xfrm>
            <a:custGeom>
              <a:avLst/>
              <a:gdLst/>
              <a:ahLst/>
              <a:rect l="l" t="t" r="r" b="b"/>
              <a:pathLst>
                <a:path w="528" h="1092">
                  <a:moveTo>
                    <a:pt x="492" y="1092"/>
                  </a:moveTo>
                  <a:cubicBezTo>
                    <a:pt x="496" y="1080"/>
                    <a:pt x="528" y="1059"/>
                    <a:pt x="519" y="1020"/>
                  </a:cubicBezTo>
                  <a:cubicBezTo>
                    <a:pt x="510" y="981"/>
                    <a:pt x="503" y="919"/>
                    <a:pt x="438" y="855"/>
                  </a:cubicBezTo>
                  <a:cubicBezTo>
                    <a:pt x="371" y="789"/>
                    <a:pt x="351" y="753"/>
                    <a:pt x="126" y="633"/>
                  </a:cubicBezTo>
                  <a:cubicBezTo>
                    <a:pt x="53" y="579"/>
                    <a:pt x="9" y="576"/>
                    <a:pt x="0" y="534"/>
                  </a:cubicBezTo>
                  <a:cubicBezTo>
                    <a:pt x="57" y="507"/>
                    <a:pt x="147" y="465"/>
                    <a:pt x="207" y="306"/>
                  </a:cubicBezTo>
                  <a:cubicBezTo>
                    <a:pt x="225" y="273"/>
                    <a:pt x="231" y="150"/>
                    <a:pt x="222" y="83"/>
                  </a:cubicBezTo>
                  <a:cubicBezTo>
                    <a:pt x="267" y="48"/>
                    <a:pt x="364" y="17"/>
                    <a:pt x="40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34960" y="4440240"/>
              <a:ext cx="635040" cy="837720"/>
            </a:xfrm>
            <a:custGeom>
              <a:avLst/>
              <a:gdLst/>
              <a:ahLst/>
              <a:rect l="l" t="t" r="r" b="b"/>
              <a:pathLst>
                <a:path w="1147" h="1422">
                  <a:moveTo>
                    <a:pt x="40" y="1422"/>
                  </a:moveTo>
                  <a:cubicBezTo>
                    <a:pt x="25" y="1413"/>
                    <a:pt x="0" y="1345"/>
                    <a:pt x="40" y="1280"/>
                  </a:cubicBezTo>
                  <a:cubicBezTo>
                    <a:pt x="94" y="1143"/>
                    <a:pt x="213" y="1091"/>
                    <a:pt x="280" y="1032"/>
                  </a:cubicBezTo>
                  <a:cubicBezTo>
                    <a:pt x="415" y="957"/>
                    <a:pt x="417" y="957"/>
                    <a:pt x="451" y="924"/>
                  </a:cubicBezTo>
                  <a:cubicBezTo>
                    <a:pt x="486" y="896"/>
                    <a:pt x="530" y="878"/>
                    <a:pt x="535" y="860"/>
                  </a:cubicBezTo>
                  <a:cubicBezTo>
                    <a:pt x="539" y="844"/>
                    <a:pt x="503" y="850"/>
                    <a:pt x="475" y="828"/>
                  </a:cubicBezTo>
                  <a:cubicBezTo>
                    <a:pt x="447" y="806"/>
                    <a:pt x="396" y="767"/>
                    <a:pt x="367" y="729"/>
                  </a:cubicBezTo>
                  <a:cubicBezTo>
                    <a:pt x="338" y="691"/>
                    <a:pt x="316" y="644"/>
                    <a:pt x="304" y="597"/>
                  </a:cubicBezTo>
                  <a:cubicBezTo>
                    <a:pt x="292" y="550"/>
                    <a:pt x="290" y="497"/>
                    <a:pt x="298" y="447"/>
                  </a:cubicBezTo>
                  <a:cubicBezTo>
                    <a:pt x="306" y="397"/>
                    <a:pt x="319" y="341"/>
                    <a:pt x="355" y="294"/>
                  </a:cubicBezTo>
                  <a:cubicBezTo>
                    <a:pt x="391" y="247"/>
                    <a:pt x="436" y="192"/>
                    <a:pt x="517" y="165"/>
                  </a:cubicBezTo>
                  <a:cubicBezTo>
                    <a:pt x="543" y="118"/>
                    <a:pt x="497" y="48"/>
                    <a:pt x="505" y="3"/>
                  </a:cubicBezTo>
                  <a:cubicBezTo>
                    <a:pt x="569" y="6"/>
                    <a:pt x="775" y="0"/>
                    <a:pt x="775" y="0"/>
                  </a:cubicBezTo>
                  <a:cubicBezTo>
                    <a:pt x="754" y="102"/>
                    <a:pt x="740" y="114"/>
                    <a:pt x="757" y="153"/>
                  </a:cubicBezTo>
                  <a:cubicBezTo>
                    <a:pt x="774" y="192"/>
                    <a:pt x="838" y="198"/>
                    <a:pt x="880" y="237"/>
                  </a:cubicBezTo>
                  <a:cubicBezTo>
                    <a:pt x="922" y="219"/>
                    <a:pt x="1003" y="144"/>
                    <a:pt x="1038" y="117"/>
                  </a:cubicBezTo>
                  <a:cubicBezTo>
                    <a:pt x="1066" y="162"/>
                    <a:pt x="1124" y="285"/>
                    <a:pt x="1147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16120" y="44632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37720" y="4466880"/>
              <a:ext cx="1476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52840" y="52588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124120" y="4462920"/>
              <a:ext cx="11520" cy="7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771320" y="5006520"/>
              <a:ext cx="645840" cy="247680"/>
              <a:chOff x="7771320" y="5006520"/>
              <a:chExt cx="645840" cy="24768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8046720" y="524952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7965360" y="524952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824240" y="5249520"/>
                <a:ext cx="102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71320" y="524952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992000" y="521640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7903800" y="521352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835760" y="521640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7920720" y="512172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786080" y="519012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952040" y="51764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877520" y="518904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850880" y="516816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8347320" y="517320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8265960" y="517320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8124840" y="5173200"/>
                <a:ext cx="102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8071560" y="517320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8292600" y="520596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8204760" y="520884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8065080" y="5204160"/>
                <a:ext cx="46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8252640" y="52466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8151480" y="525420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8297640" y="524304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8397360" y="524196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8359200" y="520308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958880" y="507816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7972560" y="5124600"/>
                <a:ext cx="44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8098200" y="505152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7905600" y="515016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8199720" y="507456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8267760" y="510768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281080" y="513216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321040" y="51548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8011800" y="518112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8091720" y="500940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973640" y="505944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8149680" y="504828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8103240" y="507348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8068320" y="509544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8065080" y="511992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8078400" y="513720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890840" y="508860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827840" y="5132160"/>
                <a:ext cx="44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802640" y="516816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980480" y="510012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8148240" y="510588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8157960" y="520596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8166240" y="513576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8221320" y="515304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8216280" y="510948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8020080" y="504972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978680" y="502524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923960" y="50594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8015400" y="500652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8164800" y="50216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8197920" y="504684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8120880" y="5036400"/>
                <a:ext cx="1440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06680" y="4783320"/>
              <a:ext cx="363960" cy="215640"/>
              <a:chOff x="7906680" y="4783320"/>
              <a:chExt cx="363960" cy="215640"/>
            </a:xfrm>
          </p:grpSpPr>
          <p:sp>
            <p:nvSpPr>
              <p:cNvPr id="398" name=""/>
              <p:cNvSpPr/>
              <p:nvPr/>
            </p:nvSpPr>
            <p:spPr>
              <a:xfrm flipH="1">
                <a:off x="8114760" y="499896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011800" y="498672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8008920" y="4859280"/>
                <a:ext cx="165240" cy="107280"/>
                <a:chOff x="8008920" y="4859280"/>
                <a:chExt cx="165240" cy="1072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8043480" y="492228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052480" y="4880520"/>
                  <a:ext cx="31320" cy="3924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4949400">
                  <a:off x="8051400" y="486576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16087200">
                  <a:off x="8106120" y="4905720"/>
                  <a:ext cx="33480" cy="3708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123760" y="4859280"/>
                  <a:ext cx="31320" cy="3924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094960" y="486576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033760" y="486216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138160" y="489564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15120" y="491508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4949400">
                  <a:off x="8033040" y="4916880"/>
                  <a:ext cx="33480" cy="3708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4949400">
                  <a:off x="8054640" y="4887000"/>
                  <a:ext cx="33480" cy="3708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4949400">
                  <a:off x="8059680" y="490464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010360" y="4904640"/>
                  <a:ext cx="3564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008920" y="487116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050320" y="493092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085240" y="490284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073360" y="492912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7919280" y="4795200"/>
                <a:ext cx="33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49760" y="47833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21"/>
                    </a:moveTo>
                    <a:cubicBezTo>
                      <a:pt x="10" y="21"/>
                      <a:pt x="21" y="21"/>
                      <a:pt x="27" y="18"/>
                    </a:cubicBezTo>
                    <a:cubicBezTo>
                      <a:pt x="33" y="15"/>
                      <a:pt x="36" y="7"/>
                      <a:pt x="3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906680" y="47833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21"/>
                    </a:moveTo>
                    <a:cubicBezTo>
                      <a:pt x="10" y="21"/>
                      <a:pt x="21" y="21"/>
                      <a:pt x="27" y="18"/>
                    </a:cubicBezTo>
                    <a:cubicBezTo>
                      <a:pt x="33" y="15"/>
                      <a:pt x="36" y="7"/>
                      <a:pt x="3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183520" y="4812840"/>
                <a:ext cx="46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998480" y="4812840"/>
                <a:ext cx="40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8193240" y="4861080"/>
                <a:ext cx="40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8187120" y="483696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8224200" y="483696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994520" y="4836960"/>
                <a:ext cx="29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8067600" y="4836960"/>
                <a:ext cx="20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8022240" y="4861080"/>
                <a:ext cx="42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8061480" y="481284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8125200" y="4812840"/>
                <a:ext cx="19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8115840" y="4836960"/>
                <a:ext cx="46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930800" y="4836960"/>
                <a:ext cx="39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7933680" y="4812840"/>
                <a:ext cx="40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8117280" y="4861080"/>
                <a:ext cx="20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8159400" y="4861080"/>
                <a:ext cx="20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930440" y="4861080"/>
                <a:ext cx="28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977240" y="4861080"/>
                <a:ext cx="20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8079120" y="486108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988040" y="4881600"/>
                <a:ext cx="19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169840" y="48380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150040" y="47984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97560" y="482616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195040" y="487476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78040" y="48434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50320" y="481572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092080" y="48038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02440" y="48416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66080" y="481752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974000" y="486576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32600" y="48038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7990560" y="4900320"/>
                <a:ext cx="144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73440" y="488592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73440" y="4911840"/>
                <a:ext cx="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7960" y="48632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106840" y="48380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8610120" y="4293720"/>
              <a:ext cx="108360" cy="261360"/>
              <a:chOff x="8610120" y="4293720"/>
              <a:chExt cx="108360" cy="261360"/>
            </a:xfrm>
          </p:grpSpPr>
          <p:sp>
            <p:nvSpPr>
              <p:cNvPr id="457" name=""/>
              <p:cNvSpPr/>
              <p:nvPr/>
            </p:nvSpPr>
            <p:spPr>
              <a:xfrm flipH="1" rot="16393800">
                <a:off x="8539920" y="4418280"/>
                <a:ext cx="2401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rot="193800">
                <a:off x="8625600" y="4365360"/>
                <a:ext cx="69120" cy="150480"/>
              </a:xfrm>
              <a:custGeom>
                <a:avLst/>
                <a:gdLst>
                  <a:gd name="textAreaLeft" fmla="*/ 11520 w 69120"/>
                  <a:gd name="textAreaRight" fmla="*/ 57600 w 69120"/>
                  <a:gd name="textAreaTop" fmla="*/ 25560 h 150480"/>
                  <a:gd name="textAreaBottom" fmla="*/ 124920 h 15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26" y="21600"/>
                    </a:lnTo>
                    <a:lnTo>
                      <a:pt x="347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baba"/>
                  </a:gs>
                  <a:gs pos="50000">
                    <a:srgbClr val="ffffff"/>
                  </a:gs>
                  <a:gs pos="100000">
                    <a:srgbClr val="bababa"/>
                  </a:gs>
                </a:gsLst>
                <a:lin ang="1099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rot="16393800">
                <a:off x="8642880" y="4264560"/>
                <a:ext cx="41760" cy="10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16393800">
                <a:off x="8647560" y="4515120"/>
                <a:ext cx="16200" cy="4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16393800">
                <a:off x="8656200" y="4333320"/>
                <a:ext cx="16200" cy="7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638560" y="4439160"/>
                <a:ext cx="4860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533520" y="3429000"/>
            <a:ext cx="1371240" cy="1920960"/>
            <a:chOff x="533520" y="3429000"/>
            <a:chExt cx="1371240" cy="1920960"/>
          </a:xfrm>
        </p:grpSpPr>
        <p:grpSp>
          <p:nvGrpSpPr>
            <p:cNvPr id="464" name=""/>
            <p:cNvGrpSpPr/>
            <p:nvPr/>
          </p:nvGrpSpPr>
          <p:grpSpPr>
            <a:xfrm>
              <a:off x="673560" y="5242680"/>
              <a:ext cx="1231200" cy="107280"/>
              <a:chOff x="673560" y="5242680"/>
              <a:chExt cx="1231200" cy="10728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675000" y="5253840"/>
                <a:ext cx="1229760" cy="96120"/>
                <a:chOff x="675000" y="5253840"/>
                <a:chExt cx="1229760" cy="961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75000" y="5253840"/>
                  <a:ext cx="1229760" cy="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838800" y="5320800"/>
                  <a:ext cx="901440" cy="22320"/>
                </a:xfrm>
                <a:custGeom>
                  <a:avLst/>
                  <a:gdLst>
                    <a:gd name="textAreaLeft" fmla="*/ 96480 w 901440"/>
                    <a:gd name="textAreaRight" fmla="*/ 804960 w 901440"/>
                    <a:gd name="textAreaTop" fmla="*/ 2160 h 22320"/>
                    <a:gd name="textAreaBottom" fmla="*/ 20160 h 2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579" y="21600"/>
                      </a:lnTo>
                      <a:lnTo>
                        <a:pt x="102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38800" y="5336640"/>
                  <a:ext cx="901440" cy="1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837720" y="5330880"/>
                  <a:ext cx="23760" cy="1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718280" y="5330880"/>
                  <a:ext cx="23760" cy="1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 flipV="1">
                <a:off x="673560" y="5242320"/>
                <a:ext cx="1229760" cy="11160"/>
              </a:xfrm>
              <a:custGeom>
                <a:avLst/>
                <a:gdLst>
                  <a:gd name="textAreaLeft" fmla="*/ 107280 w 1229760"/>
                  <a:gd name="textAreaRight" fmla="*/ 1122480 w 1229760"/>
                  <a:gd name="textAreaTop" fmla="*/ 720 h 11160"/>
                  <a:gd name="textAreaBottom" fmla="*/ 10440 h 1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359" y="21600"/>
                    </a:lnTo>
                    <a:lnTo>
                      <a:pt x="24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833400" y="3429000"/>
              <a:ext cx="81360" cy="1814040"/>
              <a:chOff x="833400" y="3429000"/>
              <a:chExt cx="81360" cy="1814040"/>
            </a:xfrm>
          </p:grpSpPr>
          <p:sp>
            <p:nvSpPr>
              <p:cNvPr id="473" name=""/>
              <p:cNvSpPr/>
              <p:nvPr/>
            </p:nvSpPr>
            <p:spPr>
              <a:xfrm>
                <a:off x="846720" y="3429000"/>
                <a:ext cx="53280" cy="1802160"/>
              </a:xfrm>
              <a:custGeom>
                <a:avLst/>
                <a:gdLst>
                  <a:gd name="textAreaLeft" fmla="*/ 5400 w 53280"/>
                  <a:gd name="textAreaRight" fmla="*/ 47880 w 53280"/>
                  <a:gd name="textAreaTop" fmla="*/ 5400 h 1802160"/>
                  <a:gd name="textAreaBottom" fmla="*/ 1796760 h 1802160"/>
                </a:gdLst>
                <a:ahLst/>
                <a:rect l="textAreaLeft" t="textAreaTop" r="textAreaRight" b="textAreaBottom"/>
                <a:pathLst>
                  <a:path w="21600" h="725847">
                    <a:moveTo>
                      <a:pt x="7881" y="0"/>
                    </a:moveTo>
                    <a:arcTo wR="7881" hR="7881" stAng="16200000" swAng="-5400000"/>
                    <a:lnTo>
                      <a:pt x="0" y="717966"/>
                    </a:lnTo>
                    <a:arcTo wR="7881" hR="7881" stAng="10800000" swAng="-5400000"/>
                    <a:lnTo>
                      <a:pt x="13719" y="725847"/>
                    </a:lnTo>
                    <a:arcTo wR="7881" hR="7881" stAng="5400000" swAng="-5400000"/>
                    <a:lnTo>
                      <a:pt x="21600" y="7881"/>
                    </a:lnTo>
                    <a:arcTo wR="7881" hR="788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33400" y="5227200"/>
                <a:ext cx="81360" cy="1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1336680" y="4284720"/>
              <a:ext cx="225360" cy="162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48200" y="5102280"/>
              <a:ext cx="20340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48200" y="4300200"/>
              <a:ext cx="203400" cy="860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1600" h="91285">
                  <a:moveTo>
                    <a:pt x="0" y="0"/>
                  </a:moveTo>
                  <a:arcTo wR="0" hR="0" stAng="16200000" swAng="-5400000"/>
                  <a:lnTo>
                    <a:pt x="0" y="91285"/>
                  </a:lnTo>
                  <a:arcTo wR="0" hR="0" stAng="10800000" swAng="-5400000"/>
                  <a:lnTo>
                    <a:pt x="21600" y="9128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59360" y="5093640"/>
              <a:ext cx="18720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392840" y="4065840"/>
              <a:ext cx="37800" cy="1119240"/>
              <a:chOff x="1392840" y="4065840"/>
              <a:chExt cx="37800" cy="1119240"/>
            </a:xfrm>
          </p:grpSpPr>
          <p:sp>
            <p:nvSpPr>
              <p:cNvPr id="480" name=""/>
              <p:cNvSpPr/>
              <p:nvPr/>
            </p:nvSpPr>
            <p:spPr>
              <a:xfrm>
                <a:off x="1428840" y="406908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392840" y="4065840"/>
                <a:ext cx="2520" cy="102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94280" y="5085000"/>
                <a:ext cx="363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1258920" y="3846600"/>
              <a:ext cx="292680" cy="20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325520" y="3840840"/>
              <a:ext cx="15480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1286640" y="3833640"/>
              <a:ext cx="28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85200" y="3830040"/>
              <a:ext cx="23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486080" y="3828600"/>
              <a:ext cx="3168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1285200" y="3830040"/>
              <a:ext cx="30240" cy="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5400000">
              <a:off x="1375200" y="3989160"/>
              <a:ext cx="6444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29200" y="4042440"/>
              <a:ext cx="23400" cy="2700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61"/>
                  </a:moveTo>
                  <a:cubicBezTo>
                    <a:pt x="2" y="55"/>
                    <a:pt x="8" y="34"/>
                    <a:pt x="14" y="24"/>
                  </a:cubicBezTo>
                  <a:cubicBezTo>
                    <a:pt x="20" y="14"/>
                    <a:pt x="33" y="5"/>
                    <a:pt x="3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49280" y="4040640"/>
              <a:ext cx="46800" cy="2880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75" y="64"/>
                  </a:moveTo>
                  <a:cubicBezTo>
                    <a:pt x="72" y="57"/>
                    <a:pt x="65" y="32"/>
                    <a:pt x="53" y="21"/>
                  </a:cubicBezTo>
                  <a:cubicBezTo>
                    <a:pt x="41" y="10"/>
                    <a:pt x="11" y="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35760" y="4104000"/>
              <a:ext cx="333720" cy="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64480" y="4178880"/>
              <a:ext cx="4752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441800" y="4101120"/>
              <a:ext cx="138600" cy="114120"/>
              <a:chOff x="1441800" y="4101120"/>
              <a:chExt cx="138600" cy="114120"/>
            </a:xfrm>
          </p:grpSpPr>
          <p:sp>
            <p:nvSpPr>
              <p:cNvPr id="495" name=""/>
              <p:cNvSpPr/>
              <p:nvPr/>
            </p:nvSpPr>
            <p:spPr>
              <a:xfrm>
                <a:off x="1441800" y="4101120"/>
                <a:ext cx="120240" cy="8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63400" y="4104360"/>
                <a:ext cx="117000" cy="110880"/>
              </a:xfrm>
              <a:custGeom>
                <a:avLst/>
                <a:gdLst/>
                <a:ahLst/>
                <a:rect l="l" t="t" r="r" b="b"/>
                <a:pathLst>
                  <a:path w="139" h="189">
                    <a:moveTo>
                      <a:pt x="139" y="0"/>
                    </a:moveTo>
                    <a:cubicBezTo>
                      <a:pt x="115" y="0"/>
                      <a:pt x="91" y="0"/>
                      <a:pt x="73" y="6"/>
                    </a:cubicBezTo>
                    <a:cubicBezTo>
                      <a:pt x="55" y="12"/>
                      <a:pt x="39" y="22"/>
                      <a:pt x="28" y="36"/>
                    </a:cubicBezTo>
                    <a:cubicBezTo>
                      <a:pt x="17" y="50"/>
                      <a:pt x="8" y="68"/>
                      <a:pt x="4" y="93"/>
                    </a:cubicBezTo>
                    <a:cubicBezTo>
                      <a:pt x="0" y="118"/>
                      <a:pt x="2" y="169"/>
                      <a:pt x="1" y="1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511640" y="4136040"/>
                <a:ext cx="51120" cy="57960"/>
              </a:xfrm>
              <a:custGeom>
                <a:avLst/>
                <a:gdLst/>
                <a:ahLst/>
                <a:rect l="l" t="t" r="r" b="b"/>
                <a:pathLst>
                  <a:path w="61" h="99">
                    <a:moveTo>
                      <a:pt x="61" y="0"/>
                    </a:moveTo>
                    <a:cubicBezTo>
                      <a:pt x="52" y="4"/>
                      <a:pt x="20" y="8"/>
                      <a:pt x="10" y="24"/>
                    </a:cubicBezTo>
                    <a:cubicBezTo>
                      <a:pt x="0" y="40"/>
                      <a:pt x="3" y="83"/>
                      <a:pt x="1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340640" y="4294800"/>
              <a:ext cx="205200" cy="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2280" y="4233600"/>
              <a:ext cx="248040" cy="112320"/>
            </a:xfrm>
            <a:custGeom>
              <a:avLst/>
              <a:gdLst>
                <a:gd name="textAreaLeft" fmla="*/ 43200 w 248040"/>
                <a:gd name="textAreaRight" fmla="*/ 204840 w 248040"/>
                <a:gd name="textAreaTop" fmla="*/ 19440 h 112320"/>
                <a:gd name="textAreaBottom" fmla="*/ 92880 h 11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78" y="21600"/>
                  </a:lnTo>
                  <a:lnTo>
                    <a:pt x="362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37400" y="4280400"/>
              <a:ext cx="215280" cy="12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353240" y="4953600"/>
              <a:ext cx="195480" cy="91080"/>
              <a:chOff x="1353240" y="4953600"/>
              <a:chExt cx="195480" cy="91080"/>
            </a:xfrm>
          </p:grpSpPr>
          <p:sp>
            <p:nvSpPr>
              <p:cNvPr id="502" name=""/>
              <p:cNvSpPr/>
              <p:nvPr/>
            </p:nvSpPr>
            <p:spPr>
              <a:xfrm>
                <a:off x="1356480" y="5032800"/>
                <a:ext cx="186840" cy="118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1353240" y="4953600"/>
                <a:ext cx="195480" cy="80280"/>
                <a:chOff x="1353240" y="4953600"/>
                <a:chExt cx="195480" cy="80280"/>
              </a:xfrm>
            </p:grpSpPr>
            <p:sp>
              <p:nvSpPr>
                <p:cNvPr id="504" name=""/>
                <p:cNvSpPr/>
                <p:nvPr/>
              </p:nvSpPr>
              <p:spPr>
                <a:xfrm flipV="1">
                  <a:off x="1353240" y="5002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1501560" y="4975560"/>
                  <a:ext cx="36720" cy="23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1395720" y="4997520"/>
                  <a:ext cx="46440" cy="3492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1495800" y="50004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1462320" y="4975560"/>
                  <a:ext cx="36720" cy="23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360440" y="4975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1392480" y="49536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1414440" y="497232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419480" y="50022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1488600" y="49536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1466280" y="5002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451520" y="495504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1376640" y="5114160"/>
              <a:ext cx="3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76640" y="4862880"/>
              <a:ext cx="47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41800" y="5169960"/>
              <a:ext cx="22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31360" y="5092920"/>
              <a:ext cx="11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5920" y="5172840"/>
              <a:ext cx="18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37480" y="4893120"/>
              <a:ext cx="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65920" y="4862880"/>
              <a:ext cx="6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72760" y="5113440"/>
              <a:ext cx="3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80320" y="5166000"/>
              <a:ext cx="24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23800" y="5145840"/>
              <a:ext cx="3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70960" y="5061600"/>
              <a:ext cx="50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67640" y="4911120"/>
              <a:ext cx="10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72680" y="5063400"/>
              <a:ext cx="32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2360" y="4884840"/>
              <a:ext cx="32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70960" y="4941720"/>
              <a:ext cx="4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68360" y="4941000"/>
              <a:ext cx="32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95440" y="4912200"/>
              <a:ext cx="32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47560" y="5210640"/>
              <a:ext cx="20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68360" y="5145120"/>
              <a:ext cx="3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50800" y="4917600"/>
              <a:ext cx="23400" cy="14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1353960" y="4838040"/>
              <a:ext cx="196200" cy="8640"/>
              <a:chOff x="1353960" y="4838040"/>
              <a:chExt cx="196200" cy="8640"/>
            </a:xfrm>
          </p:grpSpPr>
          <p:sp>
            <p:nvSpPr>
              <p:cNvPr id="537" name=""/>
              <p:cNvSpPr/>
              <p:nvPr/>
            </p:nvSpPr>
            <p:spPr>
              <a:xfrm>
                <a:off x="1371240" y="4845240"/>
                <a:ext cx="15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530720" y="4838040"/>
                <a:ext cx="19440" cy="86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8"/>
                    </a:moveTo>
                    <a:cubicBezTo>
                      <a:pt x="0" y="18"/>
                      <a:pt x="12" y="9"/>
                      <a:pt x="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1353960" y="4838040"/>
                <a:ext cx="19440" cy="86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8"/>
                    </a:moveTo>
                    <a:cubicBezTo>
                      <a:pt x="0" y="18"/>
                      <a:pt x="12" y="9"/>
                      <a:pt x="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1470960" y="4932360"/>
              <a:ext cx="22680" cy="14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90400" y="4885920"/>
              <a:ext cx="22680" cy="14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69440" y="4887000"/>
              <a:ext cx="23400" cy="147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94640" y="4852440"/>
              <a:ext cx="23400" cy="15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65920" y="4852440"/>
              <a:ext cx="22680" cy="15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rot="16333800">
              <a:off x="1603800" y="4093200"/>
              <a:ext cx="208080" cy="356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rot="133800">
              <a:off x="1668240" y="4051440"/>
              <a:ext cx="79560" cy="129600"/>
            </a:xfrm>
            <a:custGeom>
              <a:avLst/>
              <a:gdLst>
                <a:gd name="textAreaLeft" fmla="*/ 13320 w 79560"/>
                <a:gd name="textAreaRight" fmla="*/ 66240 w 79560"/>
                <a:gd name="textAreaTop" fmla="*/ 21960 h 129600"/>
                <a:gd name="textAreaBottom" fmla="*/ 107640 h 1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26" y="21600"/>
                  </a:lnTo>
                  <a:lnTo>
                    <a:pt x="347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ababa"/>
                </a:gs>
                <a:gs pos="50000">
                  <a:srgbClr val="ffffff"/>
                </a:gs>
                <a:gs pos="100000">
                  <a:srgbClr val="bababa"/>
                </a:gs>
              </a:gsLst>
              <a:lin ang="1093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rot="16333800">
              <a:off x="1690920" y="3948480"/>
              <a:ext cx="36360" cy="12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16333800">
              <a:off x="1696680" y="4175280"/>
              <a:ext cx="1404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16333800">
              <a:off x="1703880" y="4012920"/>
              <a:ext cx="14040" cy="9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82280" y="4115880"/>
              <a:ext cx="56160" cy="21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520" y="4478760"/>
              <a:ext cx="660960" cy="2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756000" y="4453200"/>
              <a:ext cx="140400" cy="66600"/>
              <a:chOff x="756000" y="4453200"/>
              <a:chExt cx="140400" cy="66600"/>
            </a:xfrm>
          </p:grpSpPr>
          <p:sp>
            <p:nvSpPr>
              <p:cNvPr id="553" name=""/>
              <p:cNvSpPr/>
              <p:nvPr/>
            </p:nvSpPr>
            <p:spPr>
              <a:xfrm>
                <a:off x="821160" y="4466880"/>
                <a:ext cx="75240" cy="4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6000" y="4473000"/>
                <a:ext cx="128160" cy="32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618000">
                <a:off x="830160" y="4472640"/>
                <a:ext cx="54000" cy="3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418000">
                <a:off x="811440" y="4482000"/>
                <a:ext cx="92880" cy="8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618000">
                <a:off x="843120" y="4480920"/>
                <a:ext cx="29160" cy="16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129680" y="4432680"/>
              <a:ext cx="480600" cy="90000"/>
              <a:chOff x="1129680" y="4432680"/>
              <a:chExt cx="480600" cy="90000"/>
            </a:xfrm>
          </p:grpSpPr>
          <p:sp>
            <p:nvSpPr>
              <p:cNvPr id="559" name=""/>
              <p:cNvSpPr/>
              <p:nvPr/>
            </p:nvSpPr>
            <p:spPr>
              <a:xfrm>
                <a:off x="1129680" y="4476240"/>
                <a:ext cx="238680" cy="27720"/>
              </a:xfrm>
              <a:prstGeom prst="roundRect">
                <a:avLst>
                  <a:gd name="adj" fmla="val 4864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91600" y="4457520"/>
                <a:ext cx="129600" cy="5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62240" y="4474800"/>
                <a:ext cx="21348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41720" y="4457520"/>
                <a:ext cx="453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174320" y="4461840"/>
                <a:ext cx="219240" cy="14760"/>
              </a:xfrm>
              <a:custGeom>
                <a:avLst/>
                <a:gdLst/>
                <a:ahLst/>
                <a:rect l="l" t="t" r="r" b="b"/>
                <a:pathLst>
                  <a:path w="339" h="38">
                    <a:moveTo>
                      <a:pt x="339" y="0"/>
                    </a:moveTo>
                    <a:cubicBezTo>
                      <a:pt x="319" y="5"/>
                      <a:pt x="300" y="10"/>
                      <a:pt x="288" y="15"/>
                    </a:cubicBezTo>
                    <a:cubicBezTo>
                      <a:pt x="276" y="20"/>
                      <a:pt x="276" y="26"/>
                      <a:pt x="267" y="30"/>
                    </a:cubicBezTo>
                    <a:cubicBezTo>
                      <a:pt x="258" y="34"/>
                      <a:pt x="244" y="35"/>
                      <a:pt x="234" y="36"/>
                    </a:cubicBezTo>
                    <a:cubicBezTo>
                      <a:pt x="224" y="37"/>
                      <a:pt x="213" y="38"/>
                      <a:pt x="204" y="36"/>
                    </a:cubicBezTo>
                    <a:cubicBezTo>
                      <a:pt x="195" y="34"/>
                      <a:pt x="187" y="29"/>
                      <a:pt x="177" y="24"/>
                    </a:cubicBezTo>
                    <a:cubicBezTo>
                      <a:pt x="167" y="19"/>
                      <a:pt x="153" y="11"/>
                      <a:pt x="141" y="9"/>
                    </a:cubicBezTo>
                    <a:cubicBezTo>
                      <a:pt x="129" y="7"/>
                      <a:pt x="114" y="10"/>
                      <a:pt x="102" y="12"/>
                    </a:cubicBezTo>
                    <a:cubicBezTo>
                      <a:pt x="90" y="14"/>
                      <a:pt x="77" y="21"/>
                      <a:pt x="69" y="24"/>
                    </a:cubicBezTo>
                    <a:cubicBezTo>
                      <a:pt x="61" y="27"/>
                      <a:pt x="62" y="28"/>
                      <a:pt x="51" y="30"/>
                    </a:cubicBezTo>
                    <a:cubicBezTo>
                      <a:pt x="40" y="32"/>
                      <a:pt x="19" y="34"/>
                      <a:pt x="0" y="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174320" y="4502520"/>
                <a:ext cx="219240" cy="14400"/>
              </a:xfrm>
              <a:custGeom>
                <a:avLst/>
                <a:gdLst/>
                <a:ahLst/>
                <a:rect l="l" t="t" r="r" b="b"/>
                <a:pathLst>
                  <a:path w="339" h="38">
                    <a:moveTo>
                      <a:pt x="339" y="0"/>
                    </a:moveTo>
                    <a:cubicBezTo>
                      <a:pt x="319" y="5"/>
                      <a:pt x="300" y="10"/>
                      <a:pt x="288" y="15"/>
                    </a:cubicBezTo>
                    <a:cubicBezTo>
                      <a:pt x="276" y="20"/>
                      <a:pt x="276" y="26"/>
                      <a:pt x="267" y="30"/>
                    </a:cubicBezTo>
                    <a:cubicBezTo>
                      <a:pt x="258" y="34"/>
                      <a:pt x="244" y="35"/>
                      <a:pt x="234" y="36"/>
                    </a:cubicBezTo>
                    <a:cubicBezTo>
                      <a:pt x="224" y="37"/>
                      <a:pt x="213" y="38"/>
                      <a:pt x="204" y="36"/>
                    </a:cubicBezTo>
                    <a:cubicBezTo>
                      <a:pt x="195" y="34"/>
                      <a:pt x="187" y="29"/>
                      <a:pt x="177" y="24"/>
                    </a:cubicBezTo>
                    <a:cubicBezTo>
                      <a:pt x="167" y="19"/>
                      <a:pt x="153" y="11"/>
                      <a:pt x="141" y="9"/>
                    </a:cubicBezTo>
                    <a:cubicBezTo>
                      <a:pt x="129" y="7"/>
                      <a:pt x="114" y="10"/>
                      <a:pt x="102" y="12"/>
                    </a:cubicBezTo>
                    <a:cubicBezTo>
                      <a:pt x="90" y="14"/>
                      <a:pt x="77" y="21"/>
                      <a:pt x="69" y="24"/>
                    </a:cubicBezTo>
                    <a:cubicBezTo>
                      <a:pt x="61" y="27"/>
                      <a:pt x="62" y="28"/>
                      <a:pt x="51" y="30"/>
                    </a:cubicBezTo>
                    <a:cubicBezTo>
                      <a:pt x="40" y="32"/>
                      <a:pt x="19" y="34"/>
                      <a:pt x="0" y="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046400">
                <a:off x="1225800" y="4473000"/>
                <a:ext cx="55800" cy="32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4368600">
                <a:off x="1222920" y="4480560"/>
                <a:ext cx="58320" cy="187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046400">
                <a:off x="1238760" y="4480920"/>
                <a:ext cx="28800" cy="16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1328400" y="4432680"/>
                <a:ext cx="281880" cy="89640"/>
                <a:chOff x="1328400" y="4432680"/>
                <a:chExt cx="281880" cy="89640"/>
              </a:xfrm>
            </p:grpSpPr>
            <p:sp>
              <p:nvSpPr>
                <p:cNvPr id="569" name=""/>
                <p:cNvSpPr/>
                <p:nvPr/>
              </p:nvSpPr>
              <p:spPr>
                <a:xfrm flipV="1">
                  <a:off x="1336320" y="4432320"/>
                  <a:ext cx="273960" cy="34920"/>
                </a:xfrm>
                <a:prstGeom prst="blockArc">
                  <a:avLst>
                    <a:gd name="adj1" fmla="val 13453193"/>
                    <a:gd name="adj2" fmla="val 18946807"/>
                    <a:gd name="adj3" fmla="val 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V="1">
                  <a:off x="1328400" y="4487040"/>
                  <a:ext cx="273960" cy="34920"/>
                </a:xfrm>
                <a:prstGeom prst="blockArc">
                  <a:avLst>
                    <a:gd name="adj1" fmla="val 13453193"/>
                    <a:gd name="adj2" fmla="val 18946807"/>
                    <a:gd name="adj3" fmla="val 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571400" y="4462560"/>
                  <a:ext cx="0" cy="5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72" name=""/>
          <p:cNvGraphicFramePr/>
          <p:nvPr/>
        </p:nvGraphicFramePr>
        <p:xfrm>
          <a:off x="2271600" y="3851280"/>
          <a:ext cx="1766880" cy="15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71600" y="3851280"/>
                    <a:ext cx="176688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4486320" y="3497400"/>
          <a:ext cx="850680" cy="185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86320" y="3497400"/>
                    <a:ext cx="8506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6022800" y="3352680"/>
          <a:ext cx="1013040" cy="196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22800" y="3352680"/>
                    <a:ext cx="101304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986040" y="14479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54760" y="13716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51680" y="12952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6088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231400" y="1371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35080" y="33526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68480" y="335268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21920" y="342900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92400" y="3429000"/>
            <a:ext cx="2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15600" y="3352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71800" y="541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想一想：上述装置各有什么优缺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958040" y="7621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气体收集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352680" y="1752480"/>
            <a:ext cx="1524240" cy="1687320"/>
            <a:chOff x="3352680" y="1752480"/>
            <a:chExt cx="1524240" cy="1687320"/>
          </a:xfrm>
        </p:grpSpPr>
        <p:sp>
          <p:nvSpPr>
            <p:cNvPr id="592" name=""/>
            <p:cNvSpPr/>
            <p:nvPr/>
          </p:nvSpPr>
          <p:spPr>
            <a:xfrm>
              <a:off x="3673080" y="2556720"/>
              <a:ext cx="636120" cy="883080"/>
            </a:xfrm>
            <a:custGeom>
              <a:avLst/>
              <a:gdLst>
                <a:gd name="textAreaLeft" fmla="*/ 30960 w 636120"/>
                <a:gd name="textAreaRight" fmla="*/ 605160 w 636120"/>
                <a:gd name="textAreaTop" fmla="*/ 30960 h 883080"/>
                <a:gd name="textAreaBottom" fmla="*/ 852120 h 883080"/>
              </a:gdLst>
              <a:ahLst/>
              <a:rect l="textAreaLeft" t="textAreaTop" r="textAreaRight" b="textAreaBottom"/>
              <a:pathLst>
                <a:path w="21600" h="29981">
                  <a:moveTo>
                    <a:pt x="3600" y="0"/>
                  </a:moveTo>
                  <a:arcTo wR="3600" hR="3600" stAng="16200000" swAng="-5400000"/>
                  <a:lnTo>
                    <a:pt x="0" y="26381"/>
                  </a:lnTo>
                  <a:arcTo wR="3600" hR="3600" stAng="10800000" swAng="-5400000"/>
                  <a:lnTo>
                    <a:pt x="18000" y="299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35720" y="2312640"/>
              <a:ext cx="513360" cy="256680"/>
            </a:xfrm>
            <a:custGeom>
              <a:avLst/>
              <a:gdLst/>
              <a:ahLst/>
              <a:rect l="l" t="t" r="r" b="b"/>
              <a:pathLst>
                <a:path w="474" h="235">
                  <a:moveTo>
                    <a:pt x="0" y="235"/>
                  </a:moveTo>
                  <a:lnTo>
                    <a:pt x="102" y="180"/>
                  </a:lnTo>
                  <a:lnTo>
                    <a:pt x="105" y="54"/>
                  </a:lnTo>
                  <a:lnTo>
                    <a:pt x="57" y="0"/>
                  </a:lnTo>
                  <a:lnTo>
                    <a:pt x="420" y="0"/>
                  </a:lnTo>
                  <a:lnTo>
                    <a:pt x="375" y="51"/>
                  </a:lnTo>
                  <a:lnTo>
                    <a:pt x="372" y="180"/>
                  </a:lnTo>
                  <a:lnTo>
                    <a:pt x="474" y="23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00600" y="3313440"/>
              <a:ext cx="26280" cy="2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71960" y="2072880"/>
              <a:ext cx="342720" cy="181080"/>
            </a:xfrm>
            <a:custGeom>
              <a:avLst/>
              <a:gdLst/>
              <a:ahLst/>
              <a:rect l="l" t="t" r="r" b="b"/>
              <a:pathLst>
                <a:path w="349" h="193">
                  <a:moveTo>
                    <a:pt x="349" y="1"/>
                  </a:moveTo>
                  <a:lnTo>
                    <a:pt x="59" y="0"/>
                  </a:lnTo>
                  <a:lnTo>
                    <a:pt x="29" y="8"/>
                  </a:lnTo>
                  <a:lnTo>
                    <a:pt x="8" y="29"/>
                  </a:lnTo>
                  <a:lnTo>
                    <a:pt x="0" y="59"/>
                  </a:lnTo>
                  <a:lnTo>
                    <a:pt x="1" y="1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36320" y="2038680"/>
              <a:ext cx="380880" cy="203760"/>
            </a:xfrm>
            <a:custGeom>
              <a:avLst/>
              <a:gdLst/>
              <a:ahLst/>
              <a:rect l="l" t="t" r="r" b="b"/>
              <a:pathLst>
                <a:path w="388" h="217">
                  <a:moveTo>
                    <a:pt x="388" y="0"/>
                  </a:moveTo>
                  <a:lnTo>
                    <a:pt x="94" y="0"/>
                  </a:lnTo>
                  <a:lnTo>
                    <a:pt x="70" y="3"/>
                  </a:lnTo>
                  <a:lnTo>
                    <a:pt x="47" y="13"/>
                  </a:lnTo>
                  <a:lnTo>
                    <a:pt x="27" y="27"/>
                  </a:lnTo>
                  <a:lnTo>
                    <a:pt x="13" y="47"/>
                  </a:lnTo>
                  <a:lnTo>
                    <a:pt x="3" y="70"/>
                  </a:lnTo>
                  <a:lnTo>
                    <a:pt x="0" y="94"/>
                  </a:lnTo>
                  <a:lnTo>
                    <a:pt x="1" y="2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4276440" y="20728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270680" y="20404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871440" y="2271960"/>
              <a:ext cx="0" cy="10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903480" y="2271960"/>
              <a:ext cx="0" cy="10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955680" y="228024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984120" y="228024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4760" y="1794600"/>
              <a:ext cx="239760" cy="525960"/>
            </a:xfrm>
            <a:custGeom>
              <a:avLst/>
              <a:gdLst/>
              <a:ahLst/>
              <a:rect l="l" t="t" r="r" b="b"/>
              <a:pathLst>
                <a:path w="256" h="586">
                  <a:moveTo>
                    <a:pt x="0" y="2"/>
                  </a:moveTo>
                  <a:lnTo>
                    <a:pt x="152" y="0"/>
                  </a:lnTo>
                  <a:lnTo>
                    <a:pt x="200" y="16"/>
                  </a:lnTo>
                  <a:lnTo>
                    <a:pt x="250" y="87"/>
                  </a:lnTo>
                  <a:lnTo>
                    <a:pt x="256" y="178"/>
                  </a:lnTo>
                  <a:lnTo>
                    <a:pt x="255" y="5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03040" y="2237040"/>
              <a:ext cx="365040" cy="10656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ffffff"/>
                </a:gs>
                <a:gs pos="100000">
                  <a:srgbClr val="585858"/>
                </a:gs>
              </a:gsLst>
              <a:lin ang="1080000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44440" y="2350440"/>
              <a:ext cx="292320" cy="77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c0c0c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52680" y="1794600"/>
              <a:ext cx="358560" cy="3600"/>
            </a:xfrm>
            <a:custGeom>
              <a:avLst/>
              <a:gdLst/>
              <a:ahLst/>
              <a:rect l="l" t="t" r="r" b="b"/>
              <a:pathLst>
                <a:path w="383" h="4">
                  <a:moveTo>
                    <a:pt x="0" y="4"/>
                  </a:moveTo>
                  <a:lnTo>
                    <a:pt x="38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1757520"/>
              <a:ext cx="362160" cy="2520"/>
            </a:xfrm>
            <a:custGeom>
              <a:avLst/>
              <a:gdLst/>
              <a:ahLst/>
              <a:rect l="l" t="t" r="r" b="b"/>
              <a:pathLst>
                <a:path w="387" h="3">
                  <a:moveTo>
                    <a:pt x="0" y="0"/>
                  </a:moveTo>
                  <a:lnTo>
                    <a:pt x="387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02520" y="1752480"/>
              <a:ext cx="308880" cy="568080"/>
            </a:xfrm>
            <a:custGeom>
              <a:avLst/>
              <a:gdLst/>
              <a:ahLst/>
              <a:rect l="l" t="t" r="r" b="b"/>
              <a:pathLst>
                <a:path w="330" h="633">
                  <a:moveTo>
                    <a:pt x="0" y="0"/>
                  </a:moveTo>
                  <a:lnTo>
                    <a:pt x="198" y="12"/>
                  </a:lnTo>
                  <a:lnTo>
                    <a:pt x="267" y="36"/>
                  </a:lnTo>
                  <a:lnTo>
                    <a:pt x="312" y="117"/>
                  </a:lnTo>
                  <a:lnTo>
                    <a:pt x="318" y="195"/>
                  </a:lnTo>
                  <a:lnTo>
                    <a:pt x="330" y="6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9" name=""/>
          <p:cNvGraphicFramePr/>
          <p:nvPr/>
        </p:nvGraphicFramePr>
        <p:xfrm>
          <a:off x="1371600" y="1600200"/>
          <a:ext cx="150192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15019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5818320" y="198108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二氧化碳气体能不能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排水法收集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44440" y="3962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点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9480" y="9144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、怎样检验生成的气体是二氧化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18446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隶书"/>
              </a:rPr>
              <a:t>答：将生成的气体通入澄清的石灰水，石灰水变浑浊，证明生成的气体 是二氧化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81240" y="60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讨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79600" y="289548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2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、怎样检验二氧化碳是否收集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43600" y="3886200"/>
            <a:ext cx="42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隶书"/>
              </a:rPr>
              <a:t>答：用燃着的木条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接近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隶书"/>
              </a:rPr>
              <a:t>集气瓶口，如果木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隶书"/>
              </a:rPr>
              <a:t>熄灭，证明已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6" presetSubtype="4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057400" cy="18507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685800" cy="19814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1381320" cy="20383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5410080" y="4267080"/>
            <a:ext cx="1381320" cy="20383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6"/>
          <a:stretch/>
        </p:blipFill>
        <p:spPr>
          <a:xfrm>
            <a:off x="7236000" y="4221000"/>
            <a:ext cx="1390320" cy="20574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 txBox="1"/>
          <p:nvPr/>
        </p:nvSpPr>
        <p:spPr>
          <a:xfrm rot="5400000">
            <a:off x="-100080" y="4900680"/>
            <a:ext cx="187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黑体"/>
              </a:rPr>
              <a:t>检验方法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25" name=""/>
          <p:cNvSpPr/>
          <p:nvPr/>
        </p:nvSpPr>
        <p:spPr>
          <a:xfrm>
            <a:off x="2209680" y="4419720"/>
            <a:ext cx="1828800" cy="1143000"/>
          </a:xfrm>
          <a:prstGeom prst="wedgeRoundRectCallout">
            <a:avLst>
              <a:gd name="adj1" fmla="val -78125"/>
              <a:gd name="adj2" fmla="val 80277"/>
              <a:gd name="adj3" fmla="val 16667"/>
            </a:avLst>
          </a:prstGeom>
          <a:solidFill>
            <a:srgbClr val="cc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澄清石灰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变浑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 rot="5400000">
            <a:off x="3785760" y="4976640"/>
            <a:ext cx="1876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黑体"/>
              </a:rPr>
              <a:t>验满方法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1981080" cy="18194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8"/>
          <a:stretch/>
        </p:blipFill>
        <p:spPr>
          <a:xfrm>
            <a:off x="1295280" y="4267080"/>
            <a:ext cx="684360" cy="19814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9"/>
          <a:stretch/>
        </p:blipFill>
        <p:spPr>
          <a:xfrm>
            <a:off x="2438280" y="220968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2293200" y="1260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实验室里制取二氧化碳的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071080" y="444600"/>
            <a:ext cx="4295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并归纳实验室制取二氧化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操作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1797120" cy="16174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3124080" y="3513240"/>
            <a:ext cx="1797120" cy="16142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5181480" y="3581280"/>
            <a:ext cx="1863720" cy="15242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7238880" y="3622680"/>
            <a:ext cx="1774800" cy="148284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0" y="2590920"/>
            <a:ext cx="144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连接仪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59760" y="2620800"/>
            <a:ext cx="942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检查气密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8680" y="2568600"/>
            <a:ext cx="9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大理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11160" y="2568600"/>
            <a:ext cx="9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稀盐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 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162920" y="256860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集气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43000" y="27432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971800" y="27432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754520" y="27432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679840"/>
            <a:ext cx="503280" cy="215640"/>
          </a:xfrm>
          <a:prstGeom prst="rightArrow">
            <a:avLst>
              <a:gd name="adj1" fmla="val 50000"/>
              <a:gd name="adj2" fmla="val 58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320" y="2514600"/>
            <a:ext cx="8915400" cy="33289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2500200" y="142236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关于收集较纯的二氧化碳的处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2743200" y="380880"/>
            <a:ext cx="327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堂练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1523880"/>
            <a:ext cx="91440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下图为实验室制取二氧化碳的装置图，有哪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错误？为什么？请改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3048120" y="3106800"/>
            <a:ext cx="3735360" cy="26128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990720" y="2819520"/>
            <a:ext cx="2160360" cy="1109520"/>
          </a:xfrm>
          <a:prstGeom prst="wedgeRoundRectCallout">
            <a:avLst>
              <a:gd name="adj1" fmla="val 65578"/>
              <a:gd name="adj2" fmla="val 118240"/>
              <a:gd name="adj3" fmla="val 16667"/>
            </a:avLst>
          </a:prstGeom>
          <a:solidFill>
            <a:srgbClr val="ccffcc"/>
          </a:solidFill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长颈漏斗没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插入液面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09480" y="4419720"/>
            <a:ext cx="1890720" cy="1965240"/>
          </a:xfrm>
          <a:prstGeom prst="wedgeEllipseCallout">
            <a:avLst>
              <a:gd name="adj1" fmla="val 108356"/>
              <a:gd name="adj2" fmla="val -3310"/>
            </a:avLst>
          </a:prstGeom>
          <a:solidFill>
            <a:srgbClr val="ccffcc"/>
          </a:solidFill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出气导管太长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伸入了液面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629400" y="2666880"/>
            <a:ext cx="1871640" cy="1297080"/>
          </a:xfrm>
          <a:prstGeom prst="wedgeRectCallout">
            <a:avLst>
              <a:gd name="adj1" fmla="val -86300"/>
              <a:gd name="adj2" fmla="val 121236"/>
            </a:avLst>
          </a:prstGeom>
          <a:solidFill>
            <a:srgbClr val="ccffcc"/>
          </a:solidFill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没有用向上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空气法收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228600" y="1085760"/>
            <a:ext cx="1515960" cy="1581120"/>
            <a:chOff x="228600" y="1085760"/>
            <a:chExt cx="1515960" cy="1581120"/>
          </a:xfrm>
        </p:grpSpPr>
        <p:graphicFrame>
          <p:nvGraphicFramePr>
            <p:cNvPr id="654" name=""/>
            <p:cNvGraphicFramePr/>
            <p:nvPr/>
          </p:nvGraphicFramePr>
          <p:xfrm>
            <a:off x="228600" y="1085760"/>
            <a:ext cx="1515960" cy="158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085760"/>
                      <a:ext cx="151596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6" name=""/>
            <p:cNvSpPr/>
            <p:nvPr/>
          </p:nvSpPr>
          <p:spPr>
            <a:xfrm>
              <a:off x="1295280" y="1828800"/>
              <a:ext cx="2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2111400" y="1008000"/>
            <a:ext cx="1240920" cy="1734840"/>
            <a:chOff x="2111400" y="1008000"/>
            <a:chExt cx="1240920" cy="1734840"/>
          </a:xfrm>
        </p:grpSpPr>
        <p:graphicFrame>
          <p:nvGraphicFramePr>
            <p:cNvPr id="658" name=""/>
            <p:cNvGraphicFramePr/>
            <p:nvPr/>
          </p:nvGraphicFramePr>
          <p:xfrm>
            <a:off x="2111400" y="1008000"/>
            <a:ext cx="1240920" cy="173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11400" y="1008000"/>
                      <a:ext cx="124092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0" name=""/>
            <p:cNvSpPr/>
            <p:nvPr/>
          </p:nvSpPr>
          <p:spPr>
            <a:xfrm>
              <a:off x="2874960" y="1420920"/>
              <a:ext cx="2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2416320" y="3048120"/>
            <a:ext cx="1159920" cy="1734480"/>
            <a:chOff x="2416320" y="3048120"/>
            <a:chExt cx="1159920" cy="1734480"/>
          </a:xfrm>
        </p:grpSpPr>
        <p:graphicFrame>
          <p:nvGraphicFramePr>
            <p:cNvPr id="662" name=""/>
            <p:cNvGraphicFramePr/>
            <p:nvPr/>
          </p:nvGraphicFramePr>
          <p:xfrm>
            <a:off x="2501640" y="3048120"/>
            <a:ext cx="1074600" cy="1734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1640" y="3048120"/>
                      <a:ext cx="1074600" cy="173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4" name=""/>
            <p:cNvSpPr/>
            <p:nvPr/>
          </p:nvSpPr>
          <p:spPr>
            <a:xfrm>
              <a:off x="2416320" y="32238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358920" y="2971800"/>
            <a:ext cx="1241280" cy="18288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2952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71800" y="-135000"/>
            <a:ext cx="44956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课堂练习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038480" y="1295280"/>
            <a:ext cx="504036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验室制取氧气的发生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收集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验室制取氢气的发生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收集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验室制取二氧化碳的发生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收集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1835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48320" y="2362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3564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4280" y="4067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5364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5867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24000" y="5157720"/>
            <a:ext cx="2065320" cy="1314360"/>
            <a:chOff x="324000" y="5157720"/>
            <a:chExt cx="2065320" cy="1314360"/>
          </a:xfrm>
        </p:grpSpPr>
        <p:graphicFrame>
          <p:nvGraphicFramePr>
            <p:cNvPr id="676" name=""/>
            <p:cNvGraphicFramePr/>
            <p:nvPr/>
          </p:nvGraphicFramePr>
          <p:xfrm>
            <a:off x="324000" y="5157720"/>
            <a:ext cx="2065320" cy="1314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24000" y="5157720"/>
                      <a:ext cx="2065320" cy="13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"/>
            <p:cNvSpPr/>
            <p:nvPr/>
          </p:nvSpPr>
          <p:spPr>
            <a:xfrm>
              <a:off x="964800" y="5157720"/>
              <a:ext cx="28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9" name=""/>
          <p:cNvGraphicFramePr/>
          <p:nvPr/>
        </p:nvGraphicFramePr>
        <p:xfrm>
          <a:off x="2666880" y="5084640"/>
          <a:ext cx="981360" cy="1371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66880" y="5084640"/>
                    <a:ext cx="981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743200" y="59500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BatangChe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672000" y="1773360"/>
            <a:ext cx="54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a    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＋  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l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aCl</a:t>
            </a:r>
            <a:r>
              <a:rPr b="0" lang="zh-CN" sz="24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＋      ＋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O</a:t>
            </a:r>
            <a:r>
              <a:rPr b="0" lang="zh-CN" sz="24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040640" y="177336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371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a371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040280" y="1773360"/>
            <a:ext cx="8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048120" y="304920"/>
            <a:ext cx="284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079640" y="1844640"/>
            <a:ext cx="215640" cy="4321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71520" y="1676520"/>
            <a:ext cx="226692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）反应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66920" y="3141720"/>
            <a:ext cx="214632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）装置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366920" y="4724280"/>
            <a:ext cx="219060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）收集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366920" y="5805360"/>
            <a:ext cx="223344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）检验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87280" y="2565360"/>
            <a:ext cx="574560" cy="3072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实验室制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886200" y="2438280"/>
            <a:ext cx="3300120" cy="2151000"/>
            <a:chOff x="3886200" y="2438280"/>
            <a:chExt cx="3300120" cy="215100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3886200" y="2438280"/>
              <a:ext cx="1783800" cy="21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5579640" y="2438280"/>
              <a:ext cx="1606680" cy="21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"/>
          <p:cNvSpPr/>
          <p:nvPr/>
        </p:nvSpPr>
        <p:spPr>
          <a:xfrm>
            <a:off x="4329720" y="4797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上排空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809880" y="5734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将气体通入澄清石灰水或向集气瓶倒入少量澄清石灰水，澄清石灰水变浑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826880" y="1773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3710"/>
                </a:solidFill>
                <a:latin typeface="Arial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26880" y="1773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912720" y="1773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371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371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3710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12000" y="1859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21800" y="32076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 、实验室制取二氧化碳的反应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9810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稀盐酸与大理石（或石灰石）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2800" y="10666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我们通过下面三个对比实验进行探亲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2743200"/>
          <a:ext cx="8229600" cy="1218960"/>
        </p:xfrm>
        <a:graphic>
          <a:graphicData uri="http://schemas.openxmlformats.org/drawingml/2006/table">
            <a:tbl>
              <a:tblPr/>
              <a:tblGrid>
                <a:gridCol w="1218960"/>
                <a:gridCol w="70106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104560" y="144792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注意观察反应现象，并分析原因，然后填写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5600" y="281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56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2200" y="2743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有大量气泡产生，大理石逐渐溶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4720" y="3352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该反应在常温下进行，反应速度适中，便于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50840" y="520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400" y="405432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大理石与稀盐酸反应生成了碳酸和氯化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8920" y="44956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Ca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+2HCl=CaC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+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71400" y="49528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碳酸很不稳定，分解成水和二氧化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92680" y="49528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=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O+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381880" y="5029200"/>
            <a:ext cx="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7040" y="5486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总反应方程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486400" y="5867280"/>
            <a:ext cx="0" cy="45720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Ca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+2HCl=CaC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+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O+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2195640" y="981000"/>
            <a:ext cx="381636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05720" y="609480"/>
            <a:ext cx="49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：稀硫酸与大理石（或石灰石）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57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982080" y="1852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612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77160" y="1676520"/>
            <a:ext cx="18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刚开始有大量气泡产生，一时间后，气泡逐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减少 ，反应逐渐停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819520"/>
            <a:ext cx="678168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虽然该反应能生成二氧化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CaCO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+H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==CaSO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+H</a:t>
            </a:r>
            <a:r>
              <a:rPr b="1" lang="zh-CN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O+CO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但生成的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CaS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微溶于水，覆盖在大理石表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形成一层薄膜，使大理石与酸不能接触，反应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以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82080" y="5205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51814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实验室制取二氧化碳能不能用稀硫酸代替稀盐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1629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89200" y="558720"/>
            <a:ext cx="41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3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稀盐酸与碳酸钠粉未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480" y="1676520"/>
          <a:ext cx="822960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961560" y="190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156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615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4240" y="18288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反应非常剧烈，短时间产生大量气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59092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碳酸钠粉未的表面积很大，与盐酸接触面积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反应速度很快，不易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352116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实验室不能用碳酸钠粉未或大理石粉未等粉未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物质制取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4360" y="475452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该反应的化学方程式为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隶书"/>
              </a:rPr>
              <a:t>Na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隶书"/>
              </a:rPr>
              <a:t>CO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  <a:ea typeface="隶书"/>
              </a:rPr>
              <a:t>3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隶书"/>
              </a:rPr>
              <a:t>+2HCl=2NaCl+H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隶书"/>
              </a:rPr>
              <a:t>O+CO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638680" y="5334120"/>
            <a:ext cx="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探究选用的药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1828800"/>
          <a:ext cx="8001000" cy="4608360"/>
        </p:xfrm>
        <a:graphic>
          <a:graphicData uri="http://schemas.openxmlformats.org/drawingml/2006/table">
            <a:tbl>
              <a:tblPr/>
              <a:tblGrid>
                <a:gridCol w="1236960"/>
                <a:gridCol w="1833480"/>
                <a:gridCol w="2340000"/>
                <a:gridCol w="259056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编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实验内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实验现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实验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2808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Na</a:t>
                      </a:r>
                      <a:r>
                        <a:rPr b="0" lang="zh-CN" sz="2400" spc="-1" strike="noStrike" baseline="-25000">
                          <a:solidFill>
                            <a:srgbClr val="990033"/>
                          </a:solidFill>
                          <a:latin typeface="华文中宋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CO</a:t>
                      </a:r>
                      <a:r>
                        <a:rPr b="0" lang="zh-CN" sz="2400" spc="-1" strike="noStrike" baseline="-25000">
                          <a:solidFill>
                            <a:srgbClr val="990033"/>
                          </a:solidFill>
                          <a:latin typeface="华文中宋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粉末和稀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CaCO</a:t>
                      </a:r>
                      <a:r>
                        <a:rPr b="0" lang="zh-CN" sz="2400" spc="-1" strike="noStrike" baseline="-25000">
                          <a:solidFill>
                            <a:srgbClr val="990033"/>
                          </a:solidFill>
                          <a:latin typeface="华文中宋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粉末和稀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大理石和稀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大理石和稀硫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576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657600" y="2682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有大量气泡产生，反应剧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3597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有大量气泡产生，反应剧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666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反应速率太快，不易收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反应速率太快，不易收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878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产生气泡速率比较适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4956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适合实验室制取二氧化碳气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55785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有气泡产生，会减慢，停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5578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反应速率慢，不易收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3789360"/>
            <a:ext cx="8001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结论：实验室制取二氧化碳常用的理想药品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反应的化学方程式是</a:t>
            </a:r>
            <a:r>
              <a:rPr b="1" lang="zh-CN" sz="1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54500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4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石灰石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44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9360" y="6019920"/>
            <a:ext cx="76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CaCO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HCl = CaCl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H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CO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4560" y="476280"/>
            <a:ext cx="856944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制取二氧化碳药品选取原则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①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反应条件是否容易达到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②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产生气体的量是多少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③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收集的气体是否纯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④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装置、操作是否简单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⑤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原料是否易得、价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5840" y="1006200"/>
            <a:ext cx="60696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实验室制取气体的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752480"/>
            <a:ext cx="304920" cy="3505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23280" y="91188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气体发生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0280" y="375336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华文行楷"/>
              </a:rPr>
              <a:t>气体收集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496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反应物的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9520" y="1143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固体和固体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19520" y="16765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固体和液体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9520" y="2209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液体和液体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0880" y="32004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反应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是否需要加热、加催化剂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81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37160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1080" y="25909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隶书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8240" y="22860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二、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怎样设计实验室制取气体的装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572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520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排空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11480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4040" y="385128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密度比空气的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大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——向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上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排空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04040" y="472428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密度比空气的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小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——向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下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排空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65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排水法（不易溶于水、不与水发生反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56000" y="380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ahoma"/>
                <a:ea typeface="隶书"/>
              </a:rPr>
              <a:t>问题与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94160" y="1219320"/>
            <a:ext cx="6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实验室常用哪两种方法制取氧气？写出化学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式，并对比反应物状态、反应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3276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分析制取装置有什么不同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209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2H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O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隶书"/>
              </a:rPr>
              <a:t>2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2H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O+O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0880" y="214632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隶书"/>
              </a:rPr>
              <a:t>MnO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2421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50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495680" y="22093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859120"/>
            <a:ext cx="47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2KMnO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        K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MnO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+MnO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+O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743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95880" y="2895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467480" y="3657600"/>
            <a:ext cx="1447920" cy="1523880"/>
          </a:xfrm>
          <a:prstGeom prst="wedgeRoundRectCallout">
            <a:avLst>
              <a:gd name="adj1" fmla="val -75986"/>
              <a:gd name="adj2" fmla="val 5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加热高锰酸钾制取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809880"/>
            <a:ext cx="1371600" cy="1143000"/>
          </a:xfrm>
          <a:prstGeom prst="wedgeRectCallout">
            <a:avLst>
              <a:gd name="adj1" fmla="val 75578"/>
              <a:gd name="adj2" fmla="val 50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分解双氧水制取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61760" y="573876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由于反应物的状态和反应条件不同，所以所采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的气体发生装置也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00400" y="13096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、二氧化碳和氧气相关性质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42840" y="2682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三、探究实验室制取二氧化碳的装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2286000"/>
            <a:ext cx="8229600" cy="2743200"/>
            <a:chOff x="533520" y="2286000"/>
            <a:chExt cx="8229600" cy="2743200"/>
          </a:xfrm>
        </p:grpSpPr>
        <p:sp>
          <p:nvSpPr>
            <p:cNvPr id="140" name=""/>
            <p:cNvSpPr/>
            <p:nvPr/>
          </p:nvSpPr>
          <p:spPr>
            <a:xfrm>
              <a:off x="1752840" y="3124080"/>
              <a:ext cx="7010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520" y="3124080"/>
              <a:ext cx="12193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840" y="4114800"/>
              <a:ext cx="7010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4114800"/>
              <a:ext cx="1219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2840" y="2286000"/>
              <a:ext cx="7010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520" y="2286000"/>
              <a:ext cx="1219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22860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3124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520" y="50292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520" y="2286000"/>
              <a:ext cx="0" cy="2743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840" y="22860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63120" y="2286000"/>
              <a:ext cx="0" cy="2743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520" y="4114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3" name=""/>
          <p:cNvGraphicFramePr/>
          <p:nvPr/>
        </p:nvGraphicFramePr>
        <p:xfrm>
          <a:off x="3195720" y="2214720"/>
          <a:ext cx="237960" cy="280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5720" y="2214720"/>
                    <a:ext cx="2379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3526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286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2286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720" y="33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000" y="41497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隶书"/>
              </a:rPr>
              <a:t>高锰酸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59040" y="2233440"/>
            <a:ext cx="154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反应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1160" y="238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2280" y="228600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气体密度比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气大或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25560" y="2514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是否与水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1160" y="320040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固体的液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     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7920" y="3376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常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1400" y="3452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97400" y="327672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能溶于水并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   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与水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1400" y="4290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77920" y="4290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加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54080" y="4290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略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87800" y="436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85880" y="537840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想一想：实验室制取二氧化碳的装置是否与制取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气的装置相同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1:06:38Z</dcterms:created>
  <dc:creator>微软用户</dc:creator>
  <dc:description/>
  <dc:language>en-US</dc:language>
  <cp:lastModifiedBy>恒谦教育网 http://www.hengqian.com</cp:lastModifiedBy>
  <dcterms:modified xsi:type="dcterms:W3CDTF">2011-03-15T15:07:26Z</dcterms:modified>
  <cp:revision>9</cp:revision>
  <dc:subject/>
  <dc:title>幻灯片 1</dc:title>
</cp:coreProperties>
</file>